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34D-DCA7-4439-BF65-BBA1593A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88C3-E0A8-41B4-BEB9-64F42C9E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5B06-810A-473B-9C21-D8EE3464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8B1C-5EEA-4DE5-9233-443A2BAB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22C6-B371-4B30-BB0C-F7375995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B43-2C61-4CB8-B5C4-A96BE0211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9915-D5A8-47F3-90FF-3F84D50B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416-8771-46D3-A5FC-771E24EF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C9F-02DA-4F97-B4E1-6B6F88C0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B53-3B66-4289-AC8D-5DC91E56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746-E652-4496-81C2-F9691947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4594-2548-43FB-B52B-CB3D40C68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DDAB-E20F-4353-B41C-B76D5BA21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BC1-A832-44D4-A8AB-FCB4E651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968-D728-47AF-AEE3-EF0C7EB33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7AF-D681-4610-B15B-E9256B92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9E0-B7F2-4988-9045-E67BDEE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20B-61EC-4237-8CC8-569BC26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096-44DA-423A-8149-43F4E345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EE6-07A8-4CAF-9616-98DC57C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B28-AD9F-40A8-A162-B905A292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3C5-8750-4C65-9F52-4630563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EAC-5B9E-4071-8625-A07B166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E8E-641A-4B4E-902F-38E9395F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AA0-6B91-404B-B3EB-B611BC49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B15-5F9F-4AD2-80C2-F4C6A67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AFA-0A5E-44DA-BB8A-79421E9E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A4C-3C3F-4703-AA99-8E869B4F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Style Sheets for Acces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-IA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5520" y="441360"/>
            <a:ext cx="330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l Skla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6360" y="685800"/>
            <a:ext cx="45655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47712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direct accessibility of embedded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evice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im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3C technologies and guide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ext and orientation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lear navig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documents are clear and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Accessibilit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media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ing, alignment, positioning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-centric styl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ral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 Style She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13372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-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703600"/>
            <a:ext cx="1371600" cy="17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433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3526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89548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048120"/>
            <a:ext cx="56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20040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62720" y="22856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098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049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37160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o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4600" y="574200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media screen {body  {color: black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your aud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e assistive devices and learn to us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on interim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 accessibility in your testing regi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 to well-formed HTML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embedded display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force consistency in docum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element mis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impro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car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ing for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with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7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content that is accessible despite any physical, sensory, and cognitive disabilities, work constraints or technological barr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bility problems impact all users eq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problems impact people with dis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360" y="6095880"/>
            <a:ext cx="30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cher, Constructing Accessible Web Sit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Desig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ion of structure and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data, not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t desig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s compat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Business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cess for people with disabilities and the elderl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greater usability for non-disabled Web user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technical performance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an organization's commitment to social responsibilit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organizations avoid li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to auditory and visua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rely on color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and style sheets and do so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natural languag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s that transform grac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ages featuring new technologies transform grac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ser control of time-sensitive conten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7:29Z</dcterms:created>
  <dc:creator>Joel Sklar</dc:creator>
  <dc:description/>
  <dc:language>en-US</dc:language>
  <cp:lastModifiedBy>Joel Sklar</cp:lastModifiedBy>
  <dcterms:modified xsi:type="dcterms:W3CDTF">2003-09-30T17:02:07Z</dcterms:modified>
  <cp:revision>136</cp:revision>
  <dc:subject/>
  <dc:title>No Slide Title</dc:title>
</cp:coreProperties>
</file>